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50F1-B72B-44E4-9850-BD890728A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F83F-A21A-4386-9601-50633ADF85C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745-7B5B-45F5-B97C-31930BF5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A76-215A-452D-A6F5-0589992A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2ED-B609-425A-AA38-58F1D707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CD8-6903-4332-9B7A-3EC7742D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D62-C1B1-45DC-AA1E-1E241B47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DDE-F949-4D8B-948D-B293EDB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740-F178-418D-A359-AAB07351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70B-704F-4E72-AFE3-4A11C7B6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084-5C3A-467E-8448-2AA2358F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6A6-8B58-43DC-81D2-7A808C4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0EB-926A-41E4-9356-4DB634F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435-1908-4436-AADB-B9AC672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25A3-E1F9-4FBB-9FCB-0C67568F719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ASSROOM RULES </a:t>
            </a:r>
            <a:r>
              <a:rPr b="0" lang="en-US" sz="4400" spc="-1" strike="noStrike">
                <a:solidFill>
                  <a:srgbClr val="004c2b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09480" y="6858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7. Do not print web pages without permiss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53352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8.  No hacking or unauthorized access to other students files will be permitte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9. All internet sites accessed must be appropriate for school.  Sites must not contain adult topics, foul language, racism, pornography, hate, or violenc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762120"/>
            <a:ext cx="79246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20. All students must first have on file and signed by a parent an internet usage form before he/she may use the internet or email. AUP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21. The form is available from the instructor or can be downloaded at class websi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895480" y="22860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9144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. You must be in your seat and ready to start class when the bell rings.  If you come in late, you will sign the “Late Sheet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5800" y="533520"/>
            <a:ext cx="79246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2. No food or drinks will be permitted around the computer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3. Do not “Wheel” around in your chai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4. Push your chair in at the end of clas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09480" y="838080"/>
            <a:ext cx="792504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5. Remain seated until the bell rings. If you are not seated you will stay behi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6. You will not access areas of the computer,  programs, or files that you have not been cleared to use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7. Stay out of the control panel and the system folde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09480" y="83808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8. Do not put any file or program in the trash with out permiss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9. Do not download anything without the teacher’s permiss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0. Do not copy programs to or from the computers without permission (it might be illegal)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68580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1. When you are finished with all of your assignments, you may use the computer lab to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Do homework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Do work for another clas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www.sporcle.c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7621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2. Help keep the room clean.  Throw your trash in the garbage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609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38080" y="60948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4. Using the computer to play games (other than those approved) will result in you losing your computer privileges. Repeated offense of this rule will result in administrative referral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38080" y="53352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5. You may listen to music throw your computer. No iPods! 1 earphone in &amp; 1 out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neva"/>
              </a:rPr>
              <a:t>16. Chat rooms and instant messaging are not permitted at any time.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9:04:21Z</dcterms:created>
  <dc:creator>Houston ISD</dc:creator>
  <dc:description/>
  <dc:language>en-US</dc:language>
  <cp:lastModifiedBy>8736</cp:lastModifiedBy>
  <dcterms:modified xsi:type="dcterms:W3CDTF">2010-09-13T12:48:10Z</dcterms:modified>
  <cp:revision>23</cp:revision>
  <dc:subject/>
  <dc:title>Computer Applications</dc:title>
</cp:coreProperties>
</file>